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A3C-EC68-46DF-AE60-4CF0E7E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FAD-99CA-455E-8F18-325B7C6C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201-C3DB-4975-8009-0185216B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F18-4DCD-41BE-BE5D-3221B31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E011-2788-41FD-9FCC-AF7F88F8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478-CCA4-4358-AE82-1B87974D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E61-25B4-436D-870B-0FADEB22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D20C-E6B2-4F55-BBA9-CE2A8C28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1F39-1E54-4D49-85A6-9A4C2CA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7D64-82DA-40AD-8858-1B6F8CE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BF8-CDCA-4077-87D1-F84EFA9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C4D-5DB4-4872-8060-E910186F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6C16-AE13-45F9-9897-F6DE734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F6C-C830-4E43-9B2B-9737A36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C6F2-85BE-4BA6-A1C8-74F8A0C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42D-8837-4113-82B6-811A13AF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640-C754-4B2B-82B2-F6392533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7AD-177D-488D-BD43-6B25C1A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D5A-AA4A-4ECC-A596-5F99EDC9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8D3-E91E-432F-A31A-F0109B84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320-C2C1-44B0-BBCB-BE3CF1D9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FB6-5F30-46C1-84EC-9837DDA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C95-50D8-4DB1-8FA7-CB700BD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183-3931-4259-888C-5E7FA7B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4704-4AE8-4803-AD3C-3C0F107C29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6E4C-5532-450A-B2FF-07324211B2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3.xml"/><Relationship Id="rId5" Type="http://schemas.openxmlformats.org/officeDocument/2006/relationships/slide" Target="slide19.xml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" Target="slide28.xml"/><Relationship Id="rId9" Type="http://schemas.openxmlformats.org/officeDocument/2006/relationships/slide" Target="slide31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hyperlink" Target="http://deiblerenglish.wikispaces.com/file/view/GE-powerpoint2.ppt" TargetMode="External"/><Relationship Id="rId22" Type="http://schemas.openxmlformats.org/officeDocument/2006/relationships/hyperlink" Target="http://deiblerenglish.wikispaces.com/file/view/GE-powerpoint2.ppt" TargetMode="External"/><Relationship Id="rId23" Type="http://schemas.openxmlformats.org/officeDocument/2006/relationships/slide" Target="slide34.xml"/><Relationship Id="rId24" Type="http://schemas.openxmlformats.org/officeDocument/2006/relationships/slide" Target="slide3.xml"/><Relationship Id="rId25" Type="http://schemas.openxmlformats.org/officeDocument/2006/relationships/slide" Target="slide3.xml"/><Relationship Id="rId2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will never stir from your side, when I am suffered to be near you. Please God, I will be as true to you as you have been to me!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33344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16765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16765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64780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66688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61944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61944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59108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59108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5627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55627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9" action="ppaction://hlinksldjump"/>
          </p:cNvPr>
          <p:cNvSpPr/>
          <p:nvPr/>
        </p:nvSpPr>
        <p:spPr>
          <a:xfrm>
            <a:off x="152280" y="608184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1"/>
          </p:cNvPr>
          <p:cNvSpPr/>
          <p:nvPr/>
        </p:nvSpPr>
        <p:spPr>
          <a:xfrm>
            <a:off x="160020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2"/>
          </p:cNvPr>
          <p:cNvSpPr/>
          <p:nvPr/>
        </p:nvSpPr>
        <p:spPr>
          <a:xfrm>
            <a:off x="556272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295280"/>
            <a:ext cx="0" cy="5562720"/>
          </a:xfrm>
          <a:prstGeom prst="line">
            <a:avLst/>
          </a:prstGeom>
          <a:ln w="28440">
            <a:solidFill>
              <a:srgbClr val="4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0560" y="228600"/>
            <a:ext cx="133344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9480" y="80028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6880" y="13874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86880" y="197316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6880" y="25606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86880" y="31478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373392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6880" y="43210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86880" y="490680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6880" y="549432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6880" y="608184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Great Expectatio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By Charles Dicke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flipH="1" flipV="1">
            <a:off x="9144000" y="-7632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MTSD</cp:lastModifiedBy>
  <dcterms:modified xsi:type="dcterms:W3CDTF">2009-03-18T15:45:42Z</dcterms:modified>
  <cp:revision>23</cp:revision>
  <dc:subject/>
  <dc:title>Are You Smarter  Than a 5th Grader?</dc:title>
</cp:coreProperties>
</file>